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6.wmf" ContentType="image/x-wmf"/>
  <Override PartName="/ppt/media/image14.wmf" ContentType="image/x-wmf"/>
  <Override PartName="/ppt/media/image13.wmf" ContentType="image/x-wmf"/>
  <Override PartName="/ppt/media/image1.wmf" ContentType="image/x-wmf"/>
  <Override PartName="/ppt/media/image15.png" ContentType="image/png"/>
  <Override PartName="/ppt/media/drumroll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applause.wav" ContentType="audio/x-wav"/>
  <Override PartName="/ppt/media/image10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C5D8-E839-4E65-8476-313858C2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CF0B-8256-4E3D-8706-685FC34C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3DA-3145-4443-B1A0-FBA039BE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8A80-D044-485B-A62D-BCB9E69A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3608-3D3B-4ACA-B397-621108AF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BB13-C259-4573-9176-D05F343D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9B79-63E6-42FE-941B-318CA15E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5CE9-2041-4582-B360-977569A8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4CA1-6284-4C01-AF86-DC73816F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325A-FCE1-4319-8746-AF66694D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5BE6-A43E-4CB7-9529-8F6CA95F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A0D2-1086-4AC6-BBA3-716E11F8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407C-51EC-4428-93E1-998A49A1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B99D-BD6A-450D-A010-3D56996D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DAA7-3914-483D-97F3-909F32BD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A1AB-8595-45AE-AD38-8D97CB52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FF3C-85F2-4E4E-BA0B-9D0728E7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8D35C-7588-4D33-B15B-604A3ED6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3BB37-1C17-43BE-947C-AB833D22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A68D8-EC85-431D-855C-32CA18B2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2DF3E-501E-4743-8605-F50A9284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CF83E-A1A8-4CAC-BAE5-748DB77A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B53B-E371-4A8E-BA81-72CDB136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D3084-3187-4900-B5E1-BFFFE59A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90CB7-C5AD-4C68-ABC6-2E006EA5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CEEE5-E90A-4BBF-BBFF-DDBCA57E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ED226-1179-41F9-9EEA-D1A57E36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A367C-8CD8-4097-AEEB-36B74E4C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00F3F-9C90-413F-A826-DD9CB7DA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1CC8F-5DE0-48B6-B9FA-33365871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1D05-B81F-4ECD-9E9B-A2FFC07F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2ECD-BDD6-4DE3-A2FD-C7CC0B53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3644-CB16-49C6-8A4D-F153BE96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26E7-A0CA-4118-9BC6-9AEA30FF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89BB-2076-413F-895D-934D1409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2334-0987-428C-BAEB-DFDBF13E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CACD-9B84-4DF5-B15F-0ADE0023D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6A41-5D02-4AE7-B3CD-8DF51301661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1026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032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1033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34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035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036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037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038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039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040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041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042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043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44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45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1046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1047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048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049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050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051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1052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053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0E27-4660-4F0A-BF1B-1F22BDECEEA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>
            <a:off x="1219320" y="1295280"/>
            <a:ext cx="61722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omparative Ending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WordArt 5"/>
          <p:cNvSpPr txBox="1"/>
          <p:nvPr/>
        </p:nvSpPr>
        <p:spPr>
          <a:xfrm>
            <a:off x="685800" y="5181480"/>
            <a:ext cx="2057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-es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6"/>
          <p:cNvSpPr txBox="1"/>
          <p:nvPr/>
        </p:nvSpPr>
        <p:spPr>
          <a:xfrm>
            <a:off x="6324480" y="4952880"/>
            <a:ext cx="2057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-er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WordArt 7"/>
          <p:cNvSpPr txBox="1"/>
          <p:nvPr/>
        </p:nvSpPr>
        <p:spPr>
          <a:xfrm>
            <a:off x="6781680" y="228600"/>
            <a:ext cx="1828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-es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WordArt 10"/>
          <p:cNvSpPr txBox="1"/>
          <p:nvPr/>
        </p:nvSpPr>
        <p:spPr>
          <a:xfrm>
            <a:off x="304920" y="457200"/>
            <a:ext cx="2057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-er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3366cc"/>
                </a:solidFill>
                <a:uFillTx/>
                <a:latin typeface="Comic Sans MS"/>
              </a:rPr>
              <a:t>Comparative Endin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dd </a:t>
            </a: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–er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o a word to compare two people, places, things, or animal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dd </a:t>
            </a: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–est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o a word to compare three or more people, places, things, or animal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on’t forget that some words will be spelled differently when endings are added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3581280" y="76320"/>
            <a:ext cx="16002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981080" y="1219320"/>
            <a:ext cx="5257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w does the word end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666880" y="2057400"/>
            <a:ext cx="6096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ff"/>
                </a:solidFill>
                <a:latin typeface="Arial"/>
              </a:rPr>
              <a:t>Vowel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800" spc="-1" strike="noStrike">
                <a:solidFill>
                  <a:srgbClr val="333399"/>
                </a:solidFill>
                <a:latin typeface="Arial"/>
              </a:rPr>
              <a:t>2 </a:t>
            </a:r>
            <a:r>
              <a:rPr b="0" lang="en-US" sz="3800" spc="-1" strike="noStrike">
                <a:solidFill>
                  <a:srgbClr val="6600ff"/>
                </a:solidFill>
                <a:latin typeface="Arial"/>
              </a:rPr>
              <a:t>consonant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228600" y="2819520"/>
            <a:ext cx="7543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s is the way the end must be . . 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990720" y="182880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6000" spc="-1" strike="noStrike">
                <a:solidFill>
                  <a:srgbClr val="6600ff"/>
                </a:solidFill>
                <a:latin typeface="Arial"/>
              </a:rPr>
              <a:t>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276720" y="35053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add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–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3276720" y="4038480"/>
            <a:ext cx="25905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tall</a:t>
            </a:r>
            <a:r>
              <a:rPr b="0" lang="en-US" sz="7000" spc="-1" strike="noStrike">
                <a:solidFill>
                  <a:srgbClr val="99cc00"/>
                </a:solidFill>
                <a:latin typeface="Arial"/>
              </a:rPr>
              <a:t>er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2" descr="j0078704"/>
          <p:cNvPicPr/>
          <p:nvPr/>
        </p:nvPicPr>
        <p:blipFill>
          <a:blip r:embed="rId1"/>
          <a:stretch/>
        </p:blipFill>
        <p:spPr>
          <a:xfrm>
            <a:off x="6270480" y="2209680"/>
            <a:ext cx="2264040" cy="43912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3"/>
          <p:cNvSpPr/>
          <p:nvPr/>
        </p:nvSpPr>
        <p:spPr>
          <a:xfrm>
            <a:off x="152280" y="548640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an is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all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an the bo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3505320" y="76320"/>
            <a:ext cx="22096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590920" y="1523880"/>
            <a:ext cx="5257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w does the word end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4267080" y="205740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66"/>
                </a:solidFill>
                <a:latin typeface="Arial"/>
              </a:rPr>
              <a:t>Consonan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8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0" lang="en-US" sz="38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143000" y="2819520"/>
            <a:ext cx="7543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s is the way the end must be . . 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1219320" y="18288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6000" spc="-1" strike="noStrike">
                <a:solidFill>
                  <a:srgbClr val="ff9966"/>
                </a:solidFill>
                <a:latin typeface="Arial"/>
              </a:rPr>
              <a:t>r</a:t>
            </a: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380880" y="35812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n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dd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2133720" y="4191120"/>
            <a:ext cx="3124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dr</a:t>
            </a:r>
            <a:r>
              <a:rPr b="0" lang="en-US" sz="7000" spc="-1" strike="noStrike">
                <a:solidFill>
                  <a:srgbClr val="66ff33"/>
                </a:solidFill>
                <a:latin typeface="Arial"/>
              </a:rPr>
              <a:t>i</a:t>
            </a:r>
            <a:r>
              <a:rPr b="0" lang="en-US" sz="7000" spc="-1" strike="noStrike">
                <a:solidFill>
                  <a:srgbClr val="ffcc00"/>
                </a:solidFill>
                <a:latin typeface="Arial"/>
              </a:rPr>
              <a:t>es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4" descr="MCj01981710000[1]"/>
          <p:cNvPicPr/>
          <p:nvPr/>
        </p:nvPicPr>
        <p:blipFill>
          <a:blip r:embed="rId1"/>
          <a:stretch/>
        </p:blipFill>
        <p:spPr>
          <a:xfrm>
            <a:off x="6400800" y="152280"/>
            <a:ext cx="2362320" cy="1121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5" descr="MCBD09070_0000[1]"/>
          <p:cNvPicPr/>
          <p:nvPr/>
        </p:nvPicPr>
        <p:blipFill>
          <a:blip r:embed="rId2"/>
          <a:stretch/>
        </p:blipFill>
        <p:spPr>
          <a:xfrm>
            <a:off x="6095880" y="4419720"/>
            <a:ext cx="2667240" cy="2076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6" descr="MCj02291010000[1]"/>
          <p:cNvPicPr/>
          <p:nvPr/>
        </p:nvPicPr>
        <p:blipFill>
          <a:blip r:embed="rId3"/>
          <a:stretch/>
        </p:blipFill>
        <p:spPr>
          <a:xfrm>
            <a:off x="7391520" y="3348000"/>
            <a:ext cx="1523880" cy="1122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8" descr="MCNA01470_0000[1]"/>
          <p:cNvPicPr/>
          <p:nvPr/>
        </p:nvPicPr>
        <p:blipFill>
          <a:blip r:embed="rId4"/>
          <a:stretch/>
        </p:blipFill>
        <p:spPr>
          <a:xfrm>
            <a:off x="228600" y="228600"/>
            <a:ext cx="2403360" cy="14778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9"/>
          <p:cNvSpPr/>
          <p:nvPr/>
        </p:nvSpPr>
        <p:spPr>
          <a:xfrm>
            <a:off x="593640" y="5370480"/>
            <a:ext cx="527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720" y="5638680"/>
            <a:ext cx="62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sert is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ri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ce on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3505320" y="76320"/>
            <a:ext cx="22096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ill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981080" y="1219320"/>
            <a:ext cx="5257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w does the word end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267080" y="182880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66"/>
                </a:solidFill>
                <a:latin typeface="Arial"/>
              </a:rPr>
              <a:t>Consonan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8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0" lang="en-US" sz="38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228600" y="2514600"/>
            <a:ext cx="7543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s is the way the end must be . . 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1219320" y="16002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l</a:t>
            </a:r>
            <a:r>
              <a:rPr b="0" lang="en-US" sz="6000" spc="-1" strike="noStrike">
                <a:solidFill>
                  <a:srgbClr val="ff9966"/>
                </a:solidFill>
                <a:latin typeface="Arial"/>
              </a:rPr>
              <a:t>l</a:t>
            </a: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380880" y="32767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n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dd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2895480" y="3886200"/>
            <a:ext cx="3124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ill</a:t>
            </a:r>
            <a:r>
              <a:rPr b="0" lang="en-US" sz="7000" spc="-1" strike="noStrike">
                <a:solidFill>
                  <a:srgbClr val="66ff33"/>
                </a:solidFill>
                <a:latin typeface="Arial"/>
              </a:rPr>
              <a:t>i</a:t>
            </a:r>
            <a:r>
              <a:rPr b="0" lang="en-US" sz="7000" spc="-1" strike="noStrike">
                <a:solidFill>
                  <a:srgbClr val="ffcc00"/>
                </a:solidFill>
                <a:latin typeface="Arial"/>
              </a:rPr>
              <a:t>es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1" descr="j0086846"/>
          <p:cNvPicPr/>
          <p:nvPr/>
        </p:nvPicPr>
        <p:blipFill>
          <a:blip r:embed="rId1"/>
          <a:stretch/>
        </p:blipFill>
        <p:spPr>
          <a:xfrm>
            <a:off x="6580080" y="3048120"/>
            <a:ext cx="2563920" cy="3524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" descr="j0086350"/>
          <p:cNvPicPr/>
          <p:nvPr/>
        </p:nvPicPr>
        <p:blipFill>
          <a:blip r:embed="rId2"/>
          <a:stretch/>
        </p:blipFill>
        <p:spPr>
          <a:xfrm>
            <a:off x="438120" y="3886200"/>
            <a:ext cx="1197000" cy="1752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3" descr="j0086356"/>
          <p:cNvPicPr/>
          <p:nvPr/>
        </p:nvPicPr>
        <p:blipFill>
          <a:blip r:embed="rId3"/>
          <a:stretch/>
        </p:blipFill>
        <p:spPr>
          <a:xfrm>
            <a:off x="1600200" y="4724280"/>
            <a:ext cx="146520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8229600" y="472428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29600" y="47242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15"/>
          <p:cNvSpPr/>
          <p:nvPr/>
        </p:nvSpPr>
        <p:spPr>
          <a:xfrm>
            <a:off x="3277440" y="5486400"/>
            <a:ext cx="300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lli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wn of a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263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3505320" y="76320"/>
            <a:ext cx="25905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funn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981080" y="1219320"/>
            <a:ext cx="5257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w does the word end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4267080" y="205740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66"/>
                </a:solidFill>
                <a:latin typeface="Arial"/>
              </a:rPr>
              <a:t>Consonan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8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0" lang="en-US" sz="38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143000" y="2819520"/>
            <a:ext cx="7543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s is the way the end must be . . 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219320" y="18288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un</a:t>
            </a:r>
            <a:r>
              <a:rPr b="0" lang="en-US" sz="6000" spc="-1" strike="noStrike">
                <a:solidFill>
                  <a:srgbClr val="ff9966"/>
                </a:solidFill>
                <a:latin typeface="Arial"/>
              </a:rPr>
              <a:t>n</a:t>
            </a: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304920" y="35812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n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dd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1371600" y="4191120"/>
            <a:ext cx="3124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funn</a:t>
            </a:r>
            <a:r>
              <a:rPr b="0" lang="en-US" sz="7000" spc="-1" strike="noStrike">
                <a:solidFill>
                  <a:srgbClr val="66ff33"/>
                </a:solidFill>
                <a:latin typeface="Arial"/>
              </a:rPr>
              <a:t>i</a:t>
            </a:r>
            <a:r>
              <a:rPr b="0" lang="en-US" sz="7000" spc="-1" strike="noStrike">
                <a:solidFill>
                  <a:srgbClr val="ffcc00"/>
                </a:solidFill>
                <a:latin typeface="Arial"/>
              </a:rPr>
              <a:t>er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924680" y="5791320"/>
          <a:ext cx="30492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579132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3" name="Picture 12" descr="j0204676"/>
          <p:cNvPicPr/>
          <p:nvPr/>
        </p:nvPicPr>
        <p:blipFill>
          <a:blip r:embed="rId3"/>
          <a:stretch/>
        </p:blipFill>
        <p:spPr>
          <a:xfrm>
            <a:off x="5541840" y="3435480"/>
            <a:ext cx="2687760" cy="28890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3"/>
          <p:cNvSpPr/>
          <p:nvPr/>
        </p:nvSpPr>
        <p:spPr>
          <a:xfrm>
            <a:off x="151560" y="5459400"/>
            <a:ext cx="489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older brother i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unn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 my younger br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325" dur="1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3581280" y="76320"/>
            <a:ext cx="2286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1981080" y="1219320"/>
            <a:ext cx="5257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w does the word end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2666880" y="2057400"/>
            <a:ext cx="6096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ff"/>
                </a:solidFill>
                <a:latin typeface="Arial"/>
              </a:rPr>
              <a:t>Vowel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800" spc="-1" strike="noStrike">
                <a:solidFill>
                  <a:srgbClr val="333399"/>
                </a:solidFill>
                <a:latin typeface="Arial"/>
              </a:rPr>
              <a:t>2 </a:t>
            </a:r>
            <a:r>
              <a:rPr b="0" lang="en-US" sz="3800" spc="-1" strike="noStrike">
                <a:solidFill>
                  <a:srgbClr val="6600ff"/>
                </a:solidFill>
                <a:latin typeface="Arial"/>
              </a:rPr>
              <a:t>consonant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228600" y="2819520"/>
            <a:ext cx="7543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s is the way the end must be . . 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533520" y="182880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m</a:t>
            </a: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6000" spc="-1" strike="noStrike">
                <a:solidFill>
                  <a:srgbClr val="6600ff"/>
                </a:solidFill>
                <a:latin typeface="Arial"/>
              </a:rPr>
              <a:t>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5791320" y="35053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add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–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743200" y="403848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1" descr="AN00375_"/>
          <p:cNvPicPr/>
          <p:nvPr/>
        </p:nvPicPr>
        <p:blipFill>
          <a:blip r:embed="rId1"/>
          <a:stretch/>
        </p:blipFill>
        <p:spPr>
          <a:xfrm>
            <a:off x="380880" y="3352680"/>
            <a:ext cx="2422800" cy="3132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2" descr="AN01017_"/>
          <p:cNvPicPr/>
          <p:nvPr/>
        </p:nvPicPr>
        <p:blipFill>
          <a:blip r:embed="rId2"/>
          <a:stretch/>
        </p:blipFill>
        <p:spPr>
          <a:xfrm>
            <a:off x="5181480" y="3581280"/>
            <a:ext cx="557280" cy="1182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3" descr="j0192181"/>
          <p:cNvPicPr/>
          <p:nvPr/>
        </p:nvPicPr>
        <p:blipFill>
          <a:blip r:embed="rId3"/>
          <a:stretch/>
        </p:blipFill>
        <p:spPr>
          <a:xfrm>
            <a:off x="7493040" y="4038480"/>
            <a:ext cx="165096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5" name=""/>
          <p:cNvGraphicFramePr/>
          <p:nvPr/>
        </p:nvGraphicFramePr>
        <p:xfrm>
          <a:off x="4572000" y="502920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50292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Text Box 15"/>
          <p:cNvSpPr/>
          <p:nvPr/>
        </p:nvSpPr>
        <p:spPr>
          <a:xfrm>
            <a:off x="3048120" y="53341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parakeet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mall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t I 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400" dur="1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4"/>
          <p:cNvSpPr/>
          <p:nvPr/>
        </p:nvSpPr>
        <p:spPr>
          <a:xfrm>
            <a:off x="3657600" y="76320"/>
            <a:ext cx="16002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981080" y="1219320"/>
            <a:ext cx="5257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w does the word end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2666880" y="1905120"/>
            <a:ext cx="6096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ff"/>
                </a:solidFill>
                <a:latin typeface="Arial"/>
              </a:rPr>
              <a:t>Short vowel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800" spc="-1" strike="noStrike">
                <a:solidFill>
                  <a:srgbClr val="333399"/>
                </a:solidFill>
                <a:latin typeface="Arial"/>
              </a:rPr>
              <a:t>1 </a:t>
            </a:r>
            <a:r>
              <a:rPr b="0" lang="en-US" sz="3800" spc="-1" strike="noStrike">
                <a:solidFill>
                  <a:srgbClr val="6600ff"/>
                </a:solidFill>
                <a:latin typeface="Arial"/>
              </a:rPr>
              <a:t>consonan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1143000" y="2590920"/>
            <a:ext cx="7543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s is the way the end must be . . 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1219320" y="16765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6000" spc="-1" strike="noStrike">
                <a:solidFill>
                  <a:srgbClr val="6600ff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304920" y="3048120"/>
            <a:ext cx="6629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 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short vow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conson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’s the only thing to d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the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conson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dd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–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6019920" y="3641760"/>
            <a:ext cx="3124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fa</a:t>
            </a:r>
            <a:r>
              <a:rPr b="0" lang="en-US" sz="7000" spc="-1" strike="noStrike">
                <a:solidFill>
                  <a:srgbClr val="3366ff"/>
                </a:solidFill>
                <a:latin typeface="Arial"/>
              </a:rPr>
              <a:t>tt</a:t>
            </a:r>
            <a:r>
              <a:rPr b="0" lang="en-US" sz="7000" spc="-1" strike="noStrike">
                <a:solidFill>
                  <a:srgbClr val="99cc00"/>
                </a:solidFill>
                <a:latin typeface="Arial"/>
              </a:rPr>
              <a:t>er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2" descr="j0264908"/>
          <p:cNvPicPr/>
          <p:nvPr/>
        </p:nvPicPr>
        <p:blipFill>
          <a:blip r:embed="rId1"/>
          <a:stretch/>
        </p:blipFill>
        <p:spPr>
          <a:xfrm>
            <a:off x="0" y="4724280"/>
            <a:ext cx="2590920" cy="1933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3" descr="j0126115"/>
          <p:cNvPicPr/>
          <p:nvPr/>
        </p:nvPicPr>
        <p:blipFill>
          <a:blip r:embed="rId2"/>
          <a:stretch/>
        </p:blipFill>
        <p:spPr>
          <a:xfrm>
            <a:off x="6781680" y="4724280"/>
            <a:ext cx="1876680" cy="19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7" name=""/>
          <p:cNvGraphicFramePr/>
          <p:nvPr/>
        </p:nvGraphicFramePr>
        <p:xfrm>
          <a:off x="4648320" y="6172200"/>
          <a:ext cx="30456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6172200"/>
                    <a:ext cx="304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16"/>
          <p:cNvSpPr/>
          <p:nvPr/>
        </p:nvSpPr>
        <p:spPr>
          <a:xfrm>
            <a:off x="3031920" y="5145120"/>
            <a:ext cx="36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at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uppy eat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469" dur="1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3366cc"/>
                </a:solidFill>
                <a:uFillTx/>
                <a:latin typeface="Comic Sans MS"/>
              </a:rPr>
              <a:t>Comparative Endin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dd </a:t>
            </a: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–er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o a word to compare two people, places, things, or animal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dd </a:t>
            </a: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–est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o a word to compare three or more people, places, things, or animal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on’t forget about spelling changes when endings are added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WordArt 4"/>
          <p:cNvSpPr txBox="1"/>
          <p:nvPr/>
        </p:nvSpPr>
        <p:spPr>
          <a:xfrm>
            <a:off x="6400800" y="5981760"/>
            <a:ext cx="2038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The End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2T15:37:09Z</dcterms:created>
  <dc:creator>Kristen Clasen Havnen</dc:creator>
  <dc:description/>
  <dc:language>en-US</dc:language>
  <cp:lastModifiedBy>teacher</cp:lastModifiedBy>
  <dcterms:modified xsi:type="dcterms:W3CDTF">2010-12-06T02:48:09Z</dcterms:modified>
  <cp:revision>18</cp:revision>
  <dc:subject/>
  <dc:title>Slide 1</dc:title>
</cp:coreProperties>
</file>